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769-8859-4515-8F46-3831E12E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7268-A6B4-48A7-8D23-ED089F3DF90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ABFD-FFE4-495F-8714-59515BCE127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D3ED-BC8F-471A-8CE6-B66DC0FE4D0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9AC1-A0FA-4B72-97F1-C26F066352C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F6A9-67DE-4B73-9725-DDCFC6530F1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DDD2-48DD-47AA-A81F-FAE9FB4ADF0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638-1678-43BC-B660-3570AF48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18A-E8E9-43CF-8EEF-26306CB3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5BB-A115-4E4B-B4D7-FF25F3C2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678-6163-4544-BFF2-5D9590DA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5D2A-D3B5-45F0-BF37-71D6235C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2EF9-C83F-46FB-B06A-D36C213A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0F9B-81E2-4167-857E-DDA93B8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9F2D-DE02-44B1-9215-0A77D07C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88A7-D4E2-4786-8986-1244121E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602-411E-45B5-8FD3-F1DDBDD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2AE-8AF7-4FF5-9E28-9F47861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D33-BFFD-4C28-B263-847A13D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E40C-A148-4395-8253-DCB0FA15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7EC-68D5-44BA-956B-CEE876C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7B0-5C2E-4CDD-AC7C-0AA81BBC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E9A-251F-40B9-A09A-D00262F5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BBD8-61E2-4ABC-B7AC-29FCB102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C3C-8503-41A5-9002-A6007FC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056-3FBA-4084-985F-6A9EEBED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DB7-BBDF-4324-9875-B2C52C14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06D-92EB-464F-A5ED-6E02AA4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540-AB80-4818-8DD4-E62FAFFE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B3A-083C-4C6D-8D4E-E35F8599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C68-9039-4E4A-9CFD-A16C47E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4ECC-084C-438B-8A0A-3411154D0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F82-F7DE-418B-B82A-049BC096FE17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tivating Young Readers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n Your Classroom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John Guthrie, Univ. of Marylan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9" name="Picture 3" descr="Screen shot 2011-09-26 at 8.47.17 PM.png"/>
          <p:cNvPicPr/>
          <p:nvPr/>
        </p:nvPicPr>
        <p:blipFill>
          <a:blip r:embed="rId1"/>
          <a:stretch/>
        </p:blipFill>
        <p:spPr>
          <a:xfrm>
            <a:off x="152280" y="1905120"/>
            <a:ext cx="5230800" cy="302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Screen shot 2013-09-22 at 12.03.27 AM.png"/>
          <p:cNvPicPr/>
          <p:nvPr/>
        </p:nvPicPr>
        <p:blipFill>
          <a:blip r:embed="rId2"/>
          <a:stretch/>
        </p:blipFill>
        <p:spPr>
          <a:xfrm>
            <a:off x="4724280" y="3276720"/>
            <a:ext cx="4154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28600" y="1523880"/>
            <a:ext cx="8763120" cy="533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y Bookmark for Chapter 6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udents need A, B, C</a:t>
            </a:r>
            <a:r>
              <a:rPr b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 …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e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long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tro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achers provide IC7Plu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teresting top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19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ice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trol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llenging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tent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llaboration &amp;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mmunity, </a:t>
            </a:r>
            <a:r>
              <a:rPr b="1" lang="en-US" sz="2800" spc="-1" strike="noStrike">
                <a:solidFill>
                  <a:srgbClr val="ff191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structive Feedback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I see, I hear, I notice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chnolog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diverse multimedia texts)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4" name="Picture 5" descr="Screen shot 2011-09-26 at 1.43.32 PM.png"/>
          <p:cNvPicPr/>
          <p:nvPr/>
        </p:nvPicPr>
        <p:blipFill>
          <a:blip r:embed="rId3"/>
          <a:stretch/>
        </p:blipFill>
        <p:spPr>
          <a:xfrm>
            <a:off x="6400800" y="1828800"/>
            <a:ext cx="1733400" cy="176688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6" descr=""/>
          <p:cNvPicPr/>
          <p:nvPr/>
        </p:nvPicPr>
        <p:blipFill>
          <a:blip r:embed="rId4"/>
          <a:stretch/>
        </p:blipFill>
        <p:spPr>
          <a:xfrm>
            <a:off x="5559480" y="4175280"/>
            <a:ext cx="2560680" cy="834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Screen shot 2011-09-26 at 1.48.47 PM.png"/>
          <p:cNvPicPr/>
          <p:nvPr/>
        </p:nvPicPr>
        <p:blipFill>
          <a:blip r:embed="rId5"/>
          <a:stretch/>
        </p:blipFill>
        <p:spPr>
          <a:xfrm>
            <a:off x="7620120" y="5048280"/>
            <a:ext cx="1347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line Reading Locations to Motivate Young Reader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6782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’s TONS of motivating digital resources to engage your students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Task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gital Resource Revie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2717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fordan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verall rating (and link to motivational practice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534240" y="2209680"/>
            <a:ext cx="204300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mazing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99960" y="2209680"/>
            <a:ext cx="148212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ol Too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49360" y="2209680"/>
            <a:ext cx="358236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ve Communit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ing for Ideas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5" name="Picture 3" descr="Screen Shot 2016-09-21 at 9.11.55 PM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662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1992240" y="5410080"/>
            <a:ext cx="228240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ystery Photo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41200" y="5410080"/>
            <a:ext cx="338400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net Inquiry Baske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935360" y="6172200"/>
            <a:ext cx="5970240" cy="459720"/>
          </a:xfrm>
          <a:prstGeom prst="rect">
            <a:avLst/>
          </a:prstGeom>
          <a:solidFill>
            <a:srgbClr val="ffe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ondering Notebooks and Inquiry Budd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ing for Ideas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0" name="Picture 3" descr="Screen Shot 2016-09-21 at 9.14.15 PM.png"/>
          <p:cNvPicPr/>
          <p:nvPr/>
        </p:nvPicPr>
        <p:blipFill>
          <a:blip r:embed="rId1"/>
          <a:stretch/>
        </p:blipFill>
        <p:spPr>
          <a:xfrm>
            <a:off x="380880" y="2451240"/>
            <a:ext cx="8382240" cy="417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324480" y="1339920"/>
            <a:ext cx="2241720" cy="2241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6935040" y="206532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Digital 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nquiry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eating a Screencas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4" name="Picture 3" descr="Screen Shot 2016-09-21 at 9.23.53 PM.png"/>
          <p:cNvPicPr/>
          <p:nvPr/>
        </p:nvPicPr>
        <p:blipFill>
          <a:blip r:embed="rId1"/>
          <a:stretch/>
        </p:blipFill>
        <p:spPr>
          <a:xfrm>
            <a:off x="685800" y="1828800"/>
            <a:ext cx="7956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nd readings, links, and assignments on the wiki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4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What is literacy motivation and why does it matter?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Define intrinsic &amp; extrinsic motivation and how each plays out to influence reader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How do we create supportive learning contexts? 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ynthesize key ideas about motivation, classroom culture and literacy instruction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is literacy motiv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The reasons, purposes, and goals for reading and writing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y are multidimensional (many levels and layers) and diverse (many reas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you like to read?  Write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e you good at reading?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 you read? What do you writ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 do you read? Why do you write?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otivates you? </a:t>
            </a:r>
            <a:br>
              <a:rPr sz="44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rinsic 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trinsic 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1600200" y="3505320"/>
            <a:ext cx="2286000" cy="19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4876920" y="3505320"/>
            <a:ext cx="2286000" cy="19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Goals that are internal to the learner and guided by personal interests and private experiences (curiosity, involvement, social interaction, and challenge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Goals that originate outside the learner (often guided by parents and/or teachers) - guided by points, stars, external reward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310000" y="1828800"/>
            <a:ext cx="370584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grated instruction and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lf-directed lear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503320" y="4038480"/>
            <a:ext cx="30582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kill-building in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quential curriculu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481720" y="1219320"/>
            <a:ext cx="45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weet &amp; Guthrie, 1996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y is motivation importan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rinsically motivated readers are..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proficient read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knowledgeable &gt; higher achiev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urposeful and goal-direct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likely to see learning as fu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illing to work har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tivating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ex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each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and classroom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contex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 motivate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learn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48720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rnett, Ch. 6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eating Supportive Literacy Learning Contex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0" name="Picture 3" descr="Screen Shot 2016-09-21 at 5.15.24 PM.png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609480" y="4114800"/>
            <a:ext cx="7620120" cy="20646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9480" y="2093760"/>
            <a:ext cx="762012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ight distinct motivation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or literacy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, 1996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urios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liance motiv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Avoida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John Guthrie (Concept Oriented Reading Instruction) CORI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matic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ect, safety, clarity, help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434340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T 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ilure &amp; no feedbac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gmented topic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 control over 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rd to relate t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ly independent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ear, unimportance, unwillingness to scaffo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0:55:11Z</dcterms:created>
  <dc:creator>Julie Coiro</dc:creator>
  <dc:description/>
  <dc:language>en-US</dc:language>
  <cp:lastModifiedBy>Julie Coiro</cp:lastModifiedBy>
  <dcterms:modified xsi:type="dcterms:W3CDTF">2016-09-22T01:29:43Z</dcterms:modified>
  <cp:revision>214</cp:revision>
  <dc:subject/>
  <dc:title>Metacognitive Strategy Instruction to Enhance Reading Comprehension</dc:title>
</cp:coreProperties>
</file>